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EXPLODE.WAV" ContentType="audio/x-wav"/>
  <Override PartName="/ppt/media/image3.wmf" ContentType="image/x-wmf"/>
  <Override PartName="/ppt/media/APPLAUSE.WAV" ContentType="audio/x-wav"/>
  <Override PartName="/ppt/media/CHIMES.WAV" ContentType="audio/x-wav"/>
  <Override PartName="/ppt/media/image6.wmf" ContentType="image/x-wmf"/>
  <Override PartName="/ppt/media/image4.wmf" ContentType="image/x-wmf"/>
  <Override PartName="/ppt/media/PROJCTOR.WAV" ContentType="audio/x-wav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07C2-0A79-4CEE-B9AE-186E71EA2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7589-7886-4CCE-939F-8597E949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30D8-962D-48A5-B55D-FBEADAB2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0907-3E78-4C09-AAF5-43605B641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B95C-C469-4ED1-9D8F-3A44CAF6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EA00-548B-44D3-BE5C-F5BFC281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66C7-5244-4BE9-85AC-7C3461B6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C8CF-0934-4A69-A392-F0F0A279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AE43-F0DC-4269-B52D-9FEBCC4C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6166-581D-40A5-8EE5-CEB53905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5988-44C0-4027-ADF5-3EF66A73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1BEF-A338-48ED-A244-E691100D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3396-B6C9-430E-A949-C8C2295DF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52280" y="633888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Capital Community Colleg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he paragraph is a series of sentences developing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 top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685800" y="914400"/>
            <a:ext cx="73152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he Paragraph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448920" y="2895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The Topic Senten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topic of a paragraph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 is stated in one sentence.  This is called th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opic sent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st of the paragraph consists of sentences that develop or explain the main ide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876920" y="2285640"/>
            <a:ext cx="3581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 u="sng">
                <a:solidFill>
                  <a:srgbClr val="cc0000"/>
                </a:solidFill>
                <a:uFillTx/>
                <a:latin typeface="Times New Roman"/>
              </a:rPr>
              <a:t>Through the centuries rats have </a:t>
            </a:r>
            <a:r>
              <a:rPr b="1" i="1" lang="en-US" sz="1800" spc="-1" strike="noStrike" u="sng">
                <a:solidFill>
                  <a:srgbClr val="cc0000"/>
                </a:solidFill>
                <a:uFillTx/>
                <a:latin typeface="Times New Roman"/>
              </a:rPr>
              <a:t>managed to survive</a:t>
            </a:r>
            <a:r>
              <a:rPr b="0" lang="en-US" sz="1800" spc="-1" strike="noStrike" u="sng">
                <a:solidFill>
                  <a:srgbClr val="cc0000"/>
                </a:solidFill>
                <a:uFillTx/>
                <a:latin typeface="Times New Roman"/>
              </a:rPr>
              <a:t> all our efforts to destroy them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We hav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oisone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m and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rappe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m.  We hav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umigat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lood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an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urn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m.  We have tried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germ warfa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Some rats even survived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tomic bom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es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ucted on Entwetok atoll in the Pacific after World War II.  </a:t>
            </a:r>
            <a:r>
              <a:rPr b="0" lang="en-US" sz="1800" spc="-1" strike="noStrike" u="sng">
                <a:solidFill>
                  <a:srgbClr val="cc0000"/>
                </a:solidFill>
                <a:uFillTx/>
                <a:latin typeface="Times New Roman"/>
              </a:rPr>
              <a:t>In spite of all our efforts, these enemies of ours continue to prove that they are the most </a:t>
            </a:r>
            <a:r>
              <a:rPr b="1" i="1" lang="en-US" sz="1800" spc="-1" strike="noStrike" u="sng">
                <a:solidFill>
                  <a:srgbClr val="cc0000"/>
                </a:solidFill>
                <a:uFillTx/>
                <a:latin typeface="Times New Roman"/>
              </a:rPr>
              <a:t>indestructible of pests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4"/>
          <p:cNvGrpSpPr/>
          <p:nvPr/>
        </p:nvGrpSpPr>
        <p:grpSpPr>
          <a:xfrm>
            <a:off x="2562120" y="3313080"/>
            <a:ext cx="1095480" cy="2087640"/>
            <a:chOff x="2562120" y="3313080"/>
            <a:chExt cx="1095480" cy="2087640"/>
          </a:xfrm>
        </p:grpSpPr>
        <p:sp>
          <p:nvSpPr>
            <p:cNvPr id="50" name="Freeform 6"/>
            <p:cNvSpPr/>
            <p:nvPr/>
          </p:nvSpPr>
          <p:spPr>
            <a:xfrm>
              <a:off x="2562120" y="4008600"/>
              <a:ext cx="1095480" cy="1392120"/>
            </a:xfrm>
            <a:custGeom>
              <a:avLst/>
              <a:gdLst>
                <a:gd name="textAreaLeft" fmla="*/ 0 w 1095480"/>
                <a:gd name="textAreaRight" fmla="*/ 1095840 w 1095480"/>
                <a:gd name="textAreaTop" fmla="*/ 0 h 1392120"/>
                <a:gd name="textAreaBottom" fmla="*/ 1392120 h 1392120"/>
              </a:gdLst>
              <a:ahLst/>
              <a:rect l="textAreaLeft" t="textAreaTop" r="textAreaRight" b="textAreaBottom"/>
              <a:pathLst>
                <a:path w="1380" h="1755">
                  <a:moveTo>
                    <a:pt x="793" y="600"/>
                  </a:moveTo>
                  <a:lnTo>
                    <a:pt x="775" y="0"/>
                  </a:lnTo>
                  <a:lnTo>
                    <a:pt x="694" y="13"/>
                  </a:lnTo>
                  <a:lnTo>
                    <a:pt x="537" y="53"/>
                  </a:lnTo>
                  <a:lnTo>
                    <a:pt x="443" y="102"/>
                  </a:lnTo>
                  <a:lnTo>
                    <a:pt x="412" y="174"/>
                  </a:lnTo>
                  <a:lnTo>
                    <a:pt x="466" y="330"/>
                  </a:lnTo>
                  <a:lnTo>
                    <a:pt x="470" y="375"/>
                  </a:lnTo>
                  <a:lnTo>
                    <a:pt x="363" y="428"/>
                  </a:lnTo>
                  <a:lnTo>
                    <a:pt x="269" y="496"/>
                  </a:lnTo>
                  <a:lnTo>
                    <a:pt x="197" y="572"/>
                  </a:lnTo>
                  <a:lnTo>
                    <a:pt x="103" y="670"/>
                  </a:lnTo>
                  <a:lnTo>
                    <a:pt x="40" y="779"/>
                  </a:lnTo>
                  <a:lnTo>
                    <a:pt x="9" y="908"/>
                  </a:lnTo>
                  <a:lnTo>
                    <a:pt x="0" y="1015"/>
                  </a:lnTo>
                  <a:lnTo>
                    <a:pt x="0" y="1168"/>
                  </a:lnTo>
                  <a:lnTo>
                    <a:pt x="35" y="1325"/>
                  </a:lnTo>
                  <a:lnTo>
                    <a:pt x="94" y="1410"/>
                  </a:lnTo>
                  <a:lnTo>
                    <a:pt x="201" y="1517"/>
                  </a:lnTo>
                  <a:lnTo>
                    <a:pt x="336" y="1624"/>
                  </a:lnTo>
                  <a:lnTo>
                    <a:pt x="493" y="1700"/>
                  </a:lnTo>
                  <a:lnTo>
                    <a:pt x="686" y="1746"/>
                  </a:lnTo>
                  <a:lnTo>
                    <a:pt x="869" y="1755"/>
                  </a:lnTo>
                  <a:lnTo>
                    <a:pt x="976" y="1740"/>
                  </a:lnTo>
                  <a:lnTo>
                    <a:pt x="1070" y="1687"/>
                  </a:lnTo>
                  <a:lnTo>
                    <a:pt x="1178" y="1598"/>
                  </a:lnTo>
                  <a:lnTo>
                    <a:pt x="1236" y="1504"/>
                  </a:lnTo>
                  <a:lnTo>
                    <a:pt x="1326" y="1382"/>
                  </a:lnTo>
                  <a:lnTo>
                    <a:pt x="1357" y="1270"/>
                  </a:lnTo>
                  <a:lnTo>
                    <a:pt x="1380" y="1137"/>
                  </a:lnTo>
                  <a:lnTo>
                    <a:pt x="1367" y="1002"/>
                  </a:lnTo>
                  <a:lnTo>
                    <a:pt x="1330" y="873"/>
                  </a:lnTo>
                  <a:lnTo>
                    <a:pt x="1263" y="738"/>
                  </a:lnTo>
                  <a:lnTo>
                    <a:pt x="1164" y="613"/>
                  </a:lnTo>
                  <a:lnTo>
                    <a:pt x="1084" y="532"/>
                  </a:lnTo>
                  <a:lnTo>
                    <a:pt x="994" y="491"/>
                  </a:lnTo>
                  <a:lnTo>
                    <a:pt x="874" y="443"/>
                  </a:lnTo>
                  <a:lnTo>
                    <a:pt x="788" y="424"/>
                  </a:lnTo>
                  <a:lnTo>
                    <a:pt x="788" y="478"/>
                  </a:lnTo>
                  <a:lnTo>
                    <a:pt x="882" y="505"/>
                  </a:lnTo>
                  <a:lnTo>
                    <a:pt x="963" y="522"/>
                  </a:lnTo>
                  <a:lnTo>
                    <a:pt x="1035" y="563"/>
                  </a:lnTo>
                  <a:lnTo>
                    <a:pt x="1116" y="644"/>
                  </a:lnTo>
                  <a:lnTo>
                    <a:pt x="1178" y="733"/>
                  </a:lnTo>
                  <a:lnTo>
                    <a:pt x="1219" y="792"/>
                  </a:lnTo>
                  <a:lnTo>
                    <a:pt x="1263" y="873"/>
                  </a:lnTo>
                  <a:lnTo>
                    <a:pt x="1299" y="989"/>
                  </a:lnTo>
                  <a:lnTo>
                    <a:pt x="1317" y="1096"/>
                  </a:lnTo>
                  <a:lnTo>
                    <a:pt x="1317" y="1190"/>
                  </a:lnTo>
                  <a:lnTo>
                    <a:pt x="1289" y="1288"/>
                  </a:lnTo>
                  <a:lnTo>
                    <a:pt x="1258" y="1382"/>
                  </a:lnTo>
                  <a:lnTo>
                    <a:pt x="1195" y="1472"/>
                  </a:lnTo>
                  <a:lnTo>
                    <a:pt x="1138" y="1543"/>
                  </a:lnTo>
                  <a:lnTo>
                    <a:pt x="1075" y="1606"/>
                  </a:lnTo>
                  <a:lnTo>
                    <a:pt x="994" y="1646"/>
                  </a:lnTo>
                  <a:lnTo>
                    <a:pt x="928" y="1687"/>
                  </a:lnTo>
                  <a:lnTo>
                    <a:pt x="860" y="1700"/>
                  </a:lnTo>
                  <a:lnTo>
                    <a:pt x="749" y="1692"/>
                  </a:lnTo>
                  <a:lnTo>
                    <a:pt x="614" y="1674"/>
                  </a:lnTo>
                  <a:lnTo>
                    <a:pt x="483" y="1624"/>
                  </a:lnTo>
                  <a:lnTo>
                    <a:pt x="376" y="1570"/>
                  </a:lnTo>
                  <a:lnTo>
                    <a:pt x="278" y="1504"/>
                  </a:lnTo>
                  <a:lnTo>
                    <a:pt x="197" y="1432"/>
                  </a:lnTo>
                  <a:lnTo>
                    <a:pt x="144" y="1364"/>
                  </a:lnTo>
                  <a:lnTo>
                    <a:pt x="90" y="1284"/>
                  </a:lnTo>
                  <a:lnTo>
                    <a:pt x="67" y="1181"/>
                  </a:lnTo>
                  <a:lnTo>
                    <a:pt x="63" y="1043"/>
                  </a:lnTo>
                  <a:lnTo>
                    <a:pt x="67" y="926"/>
                  </a:lnTo>
                  <a:lnTo>
                    <a:pt x="94" y="827"/>
                  </a:lnTo>
                  <a:lnTo>
                    <a:pt x="129" y="725"/>
                  </a:lnTo>
                  <a:lnTo>
                    <a:pt x="201" y="639"/>
                  </a:lnTo>
                  <a:lnTo>
                    <a:pt x="282" y="563"/>
                  </a:lnTo>
                  <a:lnTo>
                    <a:pt x="363" y="509"/>
                  </a:lnTo>
                  <a:lnTo>
                    <a:pt x="452" y="465"/>
                  </a:lnTo>
                  <a:lnTo>
                    <a:pt x="520" y="428"/>
                  </a:lnTo>
                  <a:lnTo>
                    <a:pt x="574" y="415"/>
                  </a:lnTo>
                  <a:lnTo>
                    <a:pt x="574" y="397"/>
                  </a:lnTo>
                  <a:lnTo>
                    <a:pt x="506" y="196"/>
                  </a:lnTo>
                  <a:lnTo>
                    <a:pt x="506" y="160"/>
                  </a:lnTo>
                  <a:lnTo>
                    <a:pt x="551" y="133"/>
                  </a:lnTo>
                  <a:lnTo>
                    <a:pt x="614" y="93"/>
                  </a:lnTo>
                  <a:lnTo>
                    <a:pt x="694" y="76"/>
                  </a:lnTo>
                  <a:lnTo>
                    <a:pt x="725" y="76"/>
                  </a:lnTo>
                  <a:lnTo>
                    <a:pt x="734" y="210"/>
                  </a:lnTo>
                  <a:lnTo>
                    <a:pt x="712" y="397"/>
                  </a:lnTo>
                  <a:lnTo>
                    <a:pt x="686" y="522"/>
                  </a:lnTo>
                  <a:lnTo>
                    <a:pt x="734" y="572"/>
                  </a:lnTo>
                  <a:lnTo>
                    <a:pt x="793" y="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7"/>
            <p:cNvSpPr/>
            <p:nvPr/>
          </p:nvSpPr>
          <p:spPr>
            <a:xfrm>
              <a:off x="2901960" y="3668760"/>
              <a:ext cx="173160" cy="41580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220" h="524">
                  <a:moveTo>
                    <a:pt x="201" y="444"/>
                  </a:moveTo>
                  <a:lnTo>
                    <a:pt x="201" y="367"/>
                  </a:lnTo>
                  <a:lnTo>
                    <a:pt x="179" y="247"/>
                  </a:lnTo>
                  <a:lnTo>
                    <a:pt x="135" y="175"/>
                  </a:lnTo>
                  <a:lnTo>
                    <a:pt x="72" y="41"/>
                  </a:lnTo>
                  <a:lnTo>
                    <a:pt x="45" y="0"/>
                  </a:lnTo>
                  <a:lnTo>
                    <a:pt x="0" y="28"/>
                  </a:lnTo>
                  <a:lnTo>
                    <a:pt x="0" y="59"/>
                  </a:lnTo>
                  <a:lnTo>
                    <a:pt x="32" y="113"/>
                  </a:lnTo>
                  <a:lnTo>
                    <a:pt x="80" y="220"/>
                  </a:lnTo>
                  <a:lnTo>
                    <a:pt x="120" y="301"/>
                  </a:lnTo>
                  <a:lnTo>
                    <a:pt x="126" y="376"/>
                  </a:lnTo>
                  <a:lnTo>
                    <a:pt x="139" y="498"/>
                  </a:lnTo>
                  <a:lnTo>
                    <a:pt x="179" y="524"/>
                  </a:lnTo>
                  <a:lnTo>
                    <a:pt x="220" y="489"/>
                  </a:lnTo>
                  <a:lnTo>
                    <a:pt x="201" y="4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8"/>
            <p:cNvSpPr/>
            <p:nvPr/>
          </p:nvSpPr>
          <p:spPr>
            <a:xfrm>
              <a:off x="3054240" y="3676680"/>
              <a:ext cx="189000" cy="9540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38" h="120">
                  <a:moveTo>
                    <a:pt x="238" y="111"/>
                  </a:moveTo>
                  <a:lnTo>
                    <a:pt x="224" y="79"/>
                  </a:lnTo>
                  <a:lnTo>
                    <a:pt x="148" y="31"/>
                  </a:lnTo>
                  <a:lnTo>
                    <a:pt x="67" y="0"/>
                  </a:lnTo>
                  <a:lnTo>
                    <a:pt x="22" y="0"/>
                  </a:lnTo>
                  <a:lnTo>
                    <a:pt x="0" y="26"/>
                  </a:lnTo>
                  <a:lnTo>
                    <a:pt x="13" y="66"/>
                  </a:lnTo>
                  <a:lnTo>
                    <a:pt x="89" y="92"/>
                  </a:lnTo>
                  <a:lnTo>
                    <a:pt x="198" y="120"/>
                  </a:lnTo>
                  <a:lnTo>
                    <a:pt x="238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9"/>
            <p:cNvSpPr/>
            <p:nvPr/>
          </p:nvSpPr>
          <p:spPr>
            <a:xfrm>
              <a:off x="3009960" y="3389400"/>
              <a:ext cx="133200" cy="1746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69" h="219">
                  <a:moveTo>
                    <a:pt x="161" y="0"/>
                  </a:moveTo>
                  <a:lnTo>
                    <a:pt x="169" y="31"/>
                  </a:lnTo>
                  <a:lnTo>
                    <a:pt x="120" y="138"/>
                  </a:lnTo>
                  <a:lnTo>
                    <a:pt x="81" y="192"/>
                  </a:lnTo>
                  <a:lnTo>
                    <a:pt x="50" y="219"/>
                  </a:lnTo>
                  <a:lnTo>
                    <a:pt x="14" y="219"/>
                  </a:lnTo>
                  <a:lnTo>
                    <a:pt x="0" y="192"/>
                  </a:lnTo>
                  <a:lnTo>
                    <a:pt x="9" y="151"/>
                  </a:lnTo>
                  <a:lnTo>
                    <a:pt x="103" y="57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871720" y="3313080"/>
              <a:ext cx="71640" cy="193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8" h="245">
                  <a:moveTo>
                    <a:pt x="13" y="0"/>
                  </a:moveTo>
                  <a:lnTo>
                    <a:pt x="53" y="72"/>
                  </a:lnTo>
                  <a:lnTo>
                    <a:pt x="75" y="152"/>
                  </a:lnTo>
                  <a:lnTo>
                    <a:pt x="88" y="213"/>
                  </a:lnTo>
                  <a:lnTo>
                    <a:pt x="66" y="245"/>
                  </a:lnTo>
                  <a:lnTo>
                    <a:pt x="35" y="245"/>
                  </a:lnTo>
                  <a:lnTo>
                    <a:pt x="22" y="218"/>
                  </a:lnTo>
                  <a:lnTo>
                    <a:pt x="0" y="165"/>
                  </a:lnTo>
                  <a:lnTo>
                    <a:pt x="0" y="8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1"/>
            <p:cNvSpPr/>
            <p:nvPr/>
          </p:nvSpPr>
          <p:spPr>
            <a:xfrm>
              <a:off x="2622600" y="3471840"/>
              <a:ext cx="191880" cy="9684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41" h="122">
                  <a:moveTo>
                    <a:pt x="0" y="0"/>
                  </a:moveTo>
                  <a:lnTo>
                    <a:pt x="116" y="15"/>
                  </a:lnTo>
                  <a:lnTo>
                    <a:pt x="201" y="37"/>
                  </a:lnTo>
                  <a:lnTo>
                    <a:pt x="241" y="68"/>
                  </a:lnTo>
                  <a:lnTo>
                    <a:pt x="227" y="109"/>
                  </a:lnTo>
                  <a:lnTo>
                    <a:pt x="201" y="122"/>
                  </a:lnTo>
                  <a:lnTo>
                    <a:pt x="133" y="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2"/>
            <p:cNvSpPr/>
            <p:nvPr/>
          </p:nvSpPr>
          <p:spPr>
            <a:xfrm>
              <a:off x="2600280" y="3635280"/>
              <a:ext cx="212760" cy="14940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149400"/>
                <a:gd name="textAreaBottom" fmla="*/ 149400 h 149400"/>
              </a:gdLst>
              <a:ahLst/>
              <a:rect l="textAreaLeft" t="textAreaTop" r="textAreaRight" b="textAreaBottom"/>
              <a:pathLst>
                <a:path w="268" h="186">
                  <a:moveTo>
                    <a:pt x="15" y="133"/>
                  </a:moveTo>
                  <a:lnTo>
                    <a:pt x="68" y="74"/>
                  </a:lnTo>
                  <a:lnTo>
                    <a:pt x="153" y="22"/>
                  </a:lnTo>
                  <a:lnTo>
                    <a:pt x="229" y="0"/>
                  </a:lnTo>
                  <a:lnTo>
                    <a:pt x="260" y="0"/>
                  </a:lnTo>
                  <a:lnTo>
                    <a:pt x="268" y="39"/>
                  </a:lnTo>
                  <a:lnTo>
                    <a:pt x="246" y="66"/>
                  </a:lnTo>
                  <a:lnTo>
                    <a:pt x="188" y="79"/>
                  </a:lnTo>
                  <a:lnTo>
                    <a:pt x="135" y="79"/>
                  </a:lnTo>
                  <a:lnTo>
                    <a:pt x="72" y="119"/>
                  </a:lnTo>
                  <a:lnTo>
                    <a:pt x="19" y="168"/>
                  </a:lnTo>
                  <a:lnTo>
                    <a:pt x="0" y="186"/>
                  </a:lnTo>
                  <a:lnTo>
                    <a:pt x="1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3"/>
            <p:cNvSpPr/>
            <p:nvPr/>
          </p:nvSpPr>
          <p:spPr>
            <a:xfrm>
              <a:off x="2830680" y="3762360"/>
              <a:ext cx="55440" cy="1062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71" h="135">
                  <a:moveTo>
                    <a:pt x="33" y="135"/>
                  </a:moveTo>
                  <a:lnTo>
                    <a:pt x="0" y="77"/>
                  </a:lnTo>
                  <a:lnTo>
                    <a:pt x="0" y="24"/>
                  </a:lnTo>
                  <a:lnTo>
                    <a:pt x="40" y="0"/>
                  </a:lnTo>
                  <a:lnTo>
                    <a:pt x="71" y="27"/>
                  </a:lnTo>
                  <a:lnTo>
                    <a:pt x="53" y="81"/>
                  </a:lnTo>
                  <a:lnTo>
                    <a:pt x="33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Group 21"/>
          <p:cNvGrpSpPr/>
          <p:nvPr/>
        </p:nvGrpSpPr>
        <p:grpSpPr>
          <a:xfrm>
            <a:off x="3846600" y="2830680"/>
            <a:ext cx="1336680" cy="2538360"/>
            <a:chOff x="3846600" y="2830680"/>
            <a:chExt cx="1336680" cy="2538360"/>
          </a:xfrm>
        </p:grpSpPr>
        <p:sp>
          <p:nvSpPr>
            <p:cNvPr id="59" name="Freeform 15"/>
            <p:cNvSpPr/>
            <p:nvPr/>
          </p:nvSpPr>
          <p:spPr>
            <a:xfrm>
              <a:off x="3846600" y="3608280"/>
              <a:ext cx="523800" cy="86364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658" h="1089">
                  <a:moveTo>
                    <a:pt x="348" y="162"/>
                  </a:moveTo>
                  <a:lnTo>
                    <a:pt x="416" y="94"/>
                  </a:lnTo>
                  <a:lnTo>
                    <a:pt x="510" y="28"/>
                  </a:lnTo>
                  <a:lnTo>
                    <a:pt x="577" y="0"/>
                  </a:lnTo>
                  <a:lnTo>
                    <a:pt x="658" y="6"/>
                  </a:lnTo>
                  <a:lnTo>
                    <a:pt x="658" y="68"/>
                  </a:lnTo>
                  <a:lnTo>
                    <a:pt x="618" y="122"/>
                  </a:lnTo>
                  <a:lnTo>
                    <a:pt x="542" y="162"/>
                  </a:lnTo>
                  <a:lnTo>
                    <a:pt x="354" y="247"/>
                  </a:lnTo>
                  <a:lnTo>
                    <a:pt x="173" y="351"/>
                  </a:lnTo>
                  <a:lnTo>
                    <a:pt x="98" y="377"/>
                  </a:lnTo>
                  <a:lnTo>
                    <a:pt x="71" y="417"/>
                  </a:lnTo>
                  <a:lnTo>
                    <a:pt x="98" y="458"/>
                  </a:lnTo>
                  <a:lnTo>
                    <a:pt x="254" y="609"/>
                  </a:lnTo>
                  <a:lnTo>
                    <a:pt x="326" y="659"/>
                  </a:lnTo>
                  <a:lnTo>
                    <a:pt x="433" y="744"/>
                  </a:lnTo>
                  <a:lnTo>
                    <a:pt x="542" y="825"/>
                  </a:lnTo>
                  <a:lnTo>
                    <a:pt x="537" y="865"/>
                  </a:lnTo>
                  <a:lnTo>
                    <a:pt x="456" y="878"/>
                  </a:lnTo>
                  <a:lnTo>
                    <a:pt x="335" y="878"/>
                  </a:lnTo>
                  <a:lnTo>
                    <a:pt x="260" y="919"/>
                  </a:lnTo>
                  <a:lnTo>
                    <a:pt x="232" y="1022"/>
                  </a:lnTo>
                  <a:lnTo>
                    <a:pt x="232" y="1076"/>
                  </a:lnTo>
                  <a:lnTo>
                    <a:pt x="201" y="1089"/>
                  </a:lnTo>
                  <a:lnTo>
                    <a:pt x="151" y="1041"/>
                  </a:lnTo>
                  <a:lnTo>
                    <a:pt x="160" y="954"/>
                  </a:lnTo>
                  <a:lnTo>
                    <a:pt x="205" y="892"/>
                  </a:lnTo>
                  <a:lnTo>
                    <a:pt x="295" y="838"/>
                  </a:lnTo>
                  <a:lnTo>
                    <a:pt x="393" y="812"/>
                  </a:lnTo>
                  <a:lnTo>
                    <a:pt x="402" y="784"/>
                  </a:lnTo>
                  <a:lnTo>
                    <a:pt x="354" y="731"/>
                  </a:lnTo>
                  <a:lnTo>
                    <a:pt x="147" y="596"/>
                  </a:lnTo>
                  <a:lnTo>
                    <a:pt x="85" y="543"/>
                  </a:lnTo>
                  <a:lnTo>
                    <a:pt x="26" y="471"/>
                  </a:lnTo>
                  <a:lnTo>
                    <a:pt x="0" y="390"/>
                  </a:lnTo>
                  <a:lnTo>
                    <a:pt x="17" y="341"/>
                  </a:lnTo>
                  <a:lnTo>
                    <a:pt x="120" y="310"/>
                  </a:lnTo>
                  <a:lnTo>
                    <a:pt x="245" y="256"/>
                  </a:lnTo>
                  <a:lnTo>
                    <a:pt x="326" y="202"/>
                  </a:lnTo>
                  <a:lnTo>
                    <a:pt x="348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16"/>
            <p:cNvSpPr/>
            <p:nvPr/>
          </p:nvSpPr>
          <p:spPr>
            <a:xfrm>
              <a:off x="4313160" y="3570120"/>
              <a:ext cx="363600" cy="82728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59" h="1043">
                  <a:moveTo>
                    <a:pt x="98" y="80"/>
                  </a:moveTo>
                  <a:lnTo>
                    <a:pt x="139" y="13"/>
                  </a:lnTo>
                  <a:lnTo>
                    <a:pt x="188" y="0"/>
                  </a:lnTo>
                  <a:lnTo>
                    <a:pt x="256" y="0"/>
                  </a:lnTo>
                  <a:lnTo>
                    <a:pt x="341" y="48"/>
                  </a:lnTo>
                  <a:lnTo>
                    <a:pt x="395" y="157"/>
                  </a:lnTo>
                  <a:lnTo>
                    <a:pt x="435" y="295"/>
                  </a:lnTo>
                  <a:lnTo>
                    <a:pt x="459" y="438"/>
                  </a:lnTo>
                  <a:lnTo>
                    <a:pt x="459" y="631"/>
                  </a:lnTo>
                  <a:lnTo>
                    <a:pt x="409" y="842"/>
                  </a:lnTo>
                  <a:lnTo>
                    <a:pt x="337" y="966"/>
                  </a:lnTo>
                  <a:lnTo>
                    <a:pt x="242" y="1028"/>
                  </a:lnTo>
                  <a:lnTo>
                    <a:pt x="153" y="1043"/>
                  </a:lnTo>
                  <a:lnTo>
                    <a:pt x="85" y="1002"/>
                  </a:lnTo>
                  <a:lnTo>
                    <a:pt x="32" y="953"/>
                  </a:lnTo>
                  <a:lnTo>
                    <a:pt x="17" y="873"/>
                  </a:lnTo>
                  <a:lnTo>
                    <a:pt x="0" y="720"/>
                  </a:lnTo>
                  <a:lnTo>
                    <a:pt x="13" y="532"/>
                  </a:lnTo>
                  <a:lnTo>
                    <a:pt x="54" y="336"/>
                  </a:lnTo>
                  <a:lnTo>
                    <a:pt x="80" y="196"/>
                  </a:lnTo>
                  <a:lnTo>
                    <a:pt x="98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17"/>
            <p:cNvSpPr/>
            <p:nvPr/>
          </p:nvSpPr>
          <p:spPr>
            <a:xfrm>
              <a:off x="4413240" y="4289400"/>
              <a:ext cx="212760" cy="107964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68" h="1360">
                  <a:moveTo>
                    <a:pt x="129" y="240"/>
                  </a:moveTo>
                  <a:lnTo>
                    <a:pt x="93" y="151"/>
                  </a:lnTo>
                  <a:lnTo>
                    <a:pt x="93" y="53"/>
                  </a:lnTo>
                  <a:lnTo>
                    <a:pt x="142" y="0"/>
                  </a:lnTo>
                  <a:lnTo>
                    <a:pt x="200" y="26"/>
                  </a:lnTo>
                  <a:lnTo>
                    <a:pt x="240" y="120"/>
                  </a:lnTo>
                  <a:lnTo>
                    <a:pt x="263" y="281"/>
                  </a:lnTo>
                  <a:lnTo>
                    <a:pt x="268" y="482"/>
                  </a:lnTo>
                  <a:lnTo>
                    <a:pt x="253" y="657"/>
                  </a:lnTo>
                  <a:lnTo>
                    <a:pt x="227" y="845"/>
                  </a:lnTo>
                  <a:lnTo>
                    <a:pt x="227" y="1073"/>
                  </a:lnTo>
                  <a:lnTo>
                    <a:pt x="263" y="1167"/>
                  </a:lnTo>
                  <a:lnTo>
                    <a:pt x="249" y="1211"/>
                  </a:lnTo>
                  <a:lnTo>
                    <a:pt x="187" y="1226"/>
                  </a:lnTo>
                  <a:lnTo>
                    <a:pt x="120" y="1288"/>
                  </a:lnTo>
                  <a:lnTo>
                    <a:pt x="89" y="1342"/>
                  </a:lnTo>
                  <a:lnTo>
                    <a:pt x="13" y="1360"/>
                  </a:lnTo>
                  <a:lnTo>
                    <a:pt x="0" y="1301"/>
                  </a:lnTo>
                  <a:lnTo>
                    <a:pt x="26" y="1252"/>
                  </a:lnTo>
                  <a:lnTo>
                    <a:pt x="120" y="1211"/>
                  </a:lnTo>
                  <a:lnTo>
                    <a:pt x="187" y="1181"/>
                  </a:lnTo>
                  <a:lnTo>
                    <a:pt x="209" y="1154"/>
                  </a:lnTo>
                  <a:lnTo>
                    <a:pt x="183" y="1078"/>
                  </a:lnTo>
                  <a:lnTo>
                    <a:pt x="161" y="925"/>
                  </a:lnTo>
                  <a:lnTo>
                    <a:pt x="155" y="742"/>
                  </a:lnTo>
                  <a:lnTo>
                    <a:pt x="161" y="621"/>
                  </a:lnTo>
                  <a:lnTo>
                    <a:pt x="168" y="456"/>
                  </a:lnTo>
                  <a:lnTo>
                    <a:pt x="155" y="308"/>
                  </a:lnTo>
                  <a:lnTo>
                    <a:pt x="129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18"/>
            <p:cNvSpPr/>
            <p:nvPr/>
          </p:nvSpPr>
          <p:spPr>
            <a:xfrm>
              <a:off x="4116240" y="4290840"/>
              <a:ext cx="330480" cy="107640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1076400"/>
                <a:gd name="textAreaBottom" fmla="*/ 1076760 h 1076400"/>
              </a:gdLst>
              <a:ahLst/>
              <a:rect l="textAreaLeft" t="textAreaTop" r="textAreaRight" b="textAreaBottom"/>
              <a:pathLst>
                <a:path w="417" h="1357">
                  <a:moveTo>
                    <a:pt x="256" y="126"/>
                  </a:moveTo>
                  <a:lnTo>
                    <a:pt x="300" y="41"/>
                  </a:lnTo>
                  <a:lnTo>
                    <a:pt x="354" y="0"/>
                  </a:lnTo>
                  <a:lnTo>
                    <a:pt x="417" y="27"/>
                  </a:lnTo>
                  <a:lnTo>
                    <a:pt x="408" y="108"/>
                  </a:lnTo>
                  <a:lnTo>
                    <a:pt x="367" y="165"/>
                  </a:lnTo>
                  <a:lnTo>
                    <a:pt x="287" y="309"/>
                  </a:lnTo>
                  <a:lnTo>
                    <a:pt x="234" y="447"/>
                  </a:lnTo>
                  <a:lnTo>
                    <a:pt x="203" y="595"/>
                  </a:lnTo>
                  <a:lnTo>
                    <a:pt x="206" y="739"/>
                  </a:lnTo>
                  <a:lnTo>
                    <a:pt x="256" y="931"/>
                  </a:lnTo>
                  <a:lnTo>
                    <a:pt x="297" y="1115"/>
                  </a:lnTo>
                  <a:lnTo>
                    <a:pt x="354" y="1195"/>
                  </a:lnTo>
                  <a:lnTo>
                    <a:pt x="350" y="1241"/>
                  </a:lnTo>
                  <a:lnTo>
                    <a:pt x="300" y="1263"/>
                  </a:lnTo>
                  <a:lnTo>
                    <a:pt x="188" y="1280"/>
                  </a:lnTo>
                  <a:lnTo>
                    <a:pt x="108" y="1329"/>
                  </a:lnTo>
                  <a:lnTo>
                    <a:pt x="68" y="1357"/>
                  </a:lnTo>
                  <a:lnTo>
                    <a:pt x="0" y="1294"/>
                  </a:lnTo>
                  <a:lnTo>
                    <a:pt x="14" y="1254"/>
                  </a:lnTo>
                  <a:lnTo>
                    <a:pt x="81" y="1226"/>
                  </a:lnTo>
                  <a:lnTo>
                    <a:pt x="166" y="1213"/>
                  </a:lnTo>
                  <a:lnTo>
                    <a:pt x="247" y="1213"/>
                  </a:lnTo>
                  <a:lnTo>
                    <a:pt x="260" y="1187"/>
                  </a:lnTo>
                  <a:lnTo>
                    <a:pt x="247" y="1141"/>
                  </a:lnTo>
                  <a:lnTo>
                    <a:pt x="179" y="967"/>
                  </a:lnTo>
                  <a:lnTo>
                    <a:pt x="135" y="796"/>
                  </a:lnTo>
                  <a:lnTo>
                    <a:pt x="112" y="672"/>
                  </a:lnTo>
                  <a:lnTo>
                    <a:pt x="108" y="556"/>
                  </a:lnTo>
                  <a:lnTo>
                    <a:pt x="125" y="443"/>
                  </a:lnTo>
                  <a:lnTo>
                    <a:pt x="166" y="327"/>
                  </a:lnTo>
                  <a:lnTo>
                    <a:pt x="229" y="174"/>
                  </a:lnTo>
                  <a:lnTo>
                    <a:pt x="256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9"/>
            <p:cNvSpPr/>
            <p:nvPr/>
          </p:nvSpPr>
          <p:spPr>
            <a:xfrm>
              <a:off x="4178160" y="2949480"/>
              <a:ext cx="427320" cy="56196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537" h="708">
                  <a:moveTo>
                    <a:pt x="196" y="592"/>
                  </a:moveTo>
                  <a:lnTo>
                    <a:pt x="236" y="680"/>
                  </a:lnTo>
                  <a:lnTo>
                    <a:pt x="330" y="708"/>
                  </a:lnTo>
                  <a:lnTo>
                    <a:pt x="411" y="699"/>
                  </a:lnTo>
                  <a:lnTo>
                    <a:pt x="478" y="641"/>
                  </a:lnTo>
                  <a:lnTo>
                    <a:pt x="531" y="524"/>
                  </a:lnTo>
                  <a:lnTo>
                    <a:pt x="537" y="385"/>
                  </a:lnTo>
                  <a:lnTo>
                    <a:pt x="518" y="264"/>
                  </a:lnTo>
                  <a:lnTo>
                    <a:pt x="443" y="129"/>
                  </a:lnTo>
                  <a:lnTo>
                    <a:pt x="388" y="66"/>
                  </a:lnTo>
                  <a:lnTo>
                    <a:pt x="330" y="27"/>
                  </a:lnTo>
                  <a:lnTo>
                    <a:pt x="277" y="0"/>
                  </a:lnTo>
                  <a:lnTo>
                    <a:pt x="183" y="9"/>
                  </a:lnTo>
                  <a:lnTo>
                    <a:pt x="133" y="90"/>
                  </a:lnTo>
                  <a:lnTo>
                    <a:pt x="107" y="175"/>
                  </a:lnTo>
                  <a:lnTo>
                    <a:pt x="107" y="309"/>
                  </a:lnTo>
                  <a:lnTo>
                    <a:pt x="129" y="439"/>
                  </a:lnTo>
                  <a:lnTo>
                    <a:pt x="155" y="511"/>
                  </a:lnTo>
                  <a:lnTo>
                    <a:pt x="8" y="618"/>
                  </a:lnTo>
                  <a:lnTo>
                    <a:pt x="0" y="658"/>
                  </a:lnTo>
                  <a:lnTo>
                    <a:pt x="22" y="680"/>
                  </a:lnTo>
                  <a:lnTo>
                    <a:pt x="183" y="560"/>
                  </a:lnTo>
                  <a:lnTo>
                    <a:pt x="196" y="5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20"/>
            <p:cNvSpPr/>
            <p:nvPr/>
          </p:nvSpPr>
          <p:spPr>
            <a:xfrm>
              <a:off x="4334040" y="2830680"/>
              <a:ext cx="849240" cy="939600"/>
            </a:xfrm>
            <a:custGeom>
              <a:avLst/>
              <a:gdLst>
                <a:gd name="textAreaLeft" fmla="*/ 0 w 849240"/>
                <a:gd name="textAreaRight" fmla="*/ 849600 w 849240"/>
                <a:gd name="textAreaTop" fmla="*/ 0 h 939600"/>
                <a:gd name="textAreaBottom" fmla="*/ 939960 h 939600"/>
              </a:gdLst>
              <a:ahLst/>
              <a:rect l="textAreaLeft" t="textAreaTop" r="textAreaRight" b="textAreaBottom"/>
              <a:pathLst>
                <a:path w="1068" h="1186">
                  <a:moveTo>
                    <a:pt x="710" y="820"/>
                  </a:moveTo>
                  <a:lnTo>
                    <a:pt x="657" y="873"/>
                  </a:lnTo>
                  <a:lnTo>
                    <a:pt x="544" y="940"/>
                  </a:lnTo>
                  <a:lnTo>
                    <a:pt x="443" y="980"/>
                  </a:lnTo>
                  <a:lnTo>
                    <a:pt x="371" y="1021"/>
                  </a:lnTo>
                  <a:lnTo>
                    <a:pt x="303" y="1074"/>
                  </a:lnTo>
                  <a:lnTo>
                    <a:pt x="295" y="1169"/>
                  </a:lnTo>
                  <a:lnTo>
                    <a:pt x="362" y="1186"/>
                  </a:lnTo>
                  <a:lnTo>
                    <a:pt x="531" y="1088"/>
                  </a:lnTo>
                  <a:lnTo>
                    <a:pt x="657" y="971"/>
                  </a:lnTo>
                  <a:lnTo>
                    <a:pt x="804" y="824"/>
                  </a:lnTo>
                  <a:lnTo>
                    <a:pt x="925" y="729"/>
                  </a:lnTo>
                  <a:lnTo>
                    <a:pt x="1028" y="658"/>
                  </a:lnTo>
                  <a:lnTo>
                    <a:pt x="1068" y="622"/>
                  </a:lnTo>
                  <a:lnTo>
                    <a:pt x="1054" y="578"/>
                  </a:lnTo>
                  <a:lnTo>
                    <a:pt x="1006" y="515"/>
                  </a:lnTo>
                  <a:lnTo>
                    <a:pt x="827" y="417"/>
                  </a:lnTo>
                  <a:lnTo>
                    <a:pt x="657" y="327"/>
                  </a:lnTo>
                  <a:lnTo>
                    <a:pt x="450" y="233"/>
                  </a:lnTo>
                  <a:lnTo>
                    <a:pt x="375" y="179"/>
                  </a:lnTo>
                  <a:lnTo>
                    <a:pt x="295" y="107"/>
                  </a:lnTo>
                  <a:lnTo>
                    <a:pt x="214" y="28"/>
                  </a:lnTo>
                  <a:lnTo>
                    <a:pt x="142" y="0"/>
                  </a:lnTo>
                  <a:lnTo>
                    <a:pt x="0" y="100"/>
                  </a:lnTo>
                  <a:lnTo>
                    <a:pt x="9" y="192"/>
                  </a:lnTo>
                  <a:lnTo>
                    <a:pt x="35" y="229"/>
                  </a:lnTo>
                  <a:lnTo>
                    <a:pt x="107" y="215"/>
                  </a:lnTo>
                  <a:lnTo>
                    <a:pt x="94" y="175"/>
                  </a:lnTo>
                  <a:lnTo>
                    <a:pt x="66" y="161"/>
                  </a:lnTo>
                  <a:lnTo>
                    <a:pt x="53" y="113"/>
                  </a:lnTo>
                  <a:lnTo>
                    <a:pt x="133" y="59"/>
                  </a:lnTo>
                  <a:lnTo>
                    <a:pt x="201" y="113"/>
                  </a:lnTo>
                  <a:lnTo>
                    <a:pt x="201" y="161"/>
                  </a:lnTo>
                  <a:lnTo>
                    <a:pt x="173" y="220"/>
                  </a:lnTo>
                  <a:lnTo>
                    <a:pt x="196" y="260"/>
                  </a:lnTo>
                  <a:lnTo>
                    <a:pt x="330" y="296"/>
                  </a:lnTo>
                  <a:lnTo>
                    <a:pt x="384" y="246"/>
                  </a:lnTo>
                  <a:lnTo>
                    <a:pt x="563" y="354"/>
                  </a:lnTo>
                  <a:lnTo>
                    <a:pt x="710" y="421"/>
                  </a:lnTo>
                  <a:lnTo>
                    <a:pt x="791" y="462"/>
                  </a:lnTo>
                  <a:lnTo>
                    <a:pt x="871" y="502"/>
                  </a:lnTo>
                  <a:lnTo>
                    <a:pt x="934" y="556"/>
                  </a:lnTo>
                  <a:lnTo>
                    <a:pt x="974" y="609"/>
                  </a:lnTo>
                  <a:lnTo>
                    <a:pt x="938" y="648"/>
                  </a:lnTo>
                  <a:lnTo>
                    <a:pt x="853" y="703"/>
                  </a:lnTo>
                  <a:lnTo>
                    <a:pt x="764" y="765"/>
                  </a:lnTo>
                  <a:lnTo>
                    <a:pt x="710" y="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AutoShape 28"/>
          <p:cNvSpPr/>
          <p:nvPr/>
        </p:nvSpPr>
        <p:spPr>
          <a:xfrm rot="457800">
            <a:off x="8001000" y="1447920"/>
            <a:ext cx="838080" cy="990360"/>
          </a:xfrm>
          <a:prstGeom prst="wedgeRectCallout">
            <a:avLst>
              <a:gd name="adj1" fmla="val -61930"/>
              <a:gd name="adj2" fmla="val 592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main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ide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31"/>
          <p:cNvSpPr/>
          <p:nvPr/>
        </p:nvSpPr>
        <p:spPr>
          <a:xfrm rot="757800">
            <a:off x="3571920" y="5333760"/>
            <a:ext cx="1000080" cy="1041120"/>
          </a:xfrm>
          <a:prstGeom prst="wedgeRectCallout">
            <a:avLst>
              <a:gd name="adj1" fmla="val 119254"/>
              <a:gd name="adj2" fmla="val -4924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concluding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sentenc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7" descr="ANMWI157"/>
          <p:cNvPicPr/>
          <p:nvPr/>
        </p:nvPicPr>
        <p:blipFill>
          <a:blip r:embed="rId1"/>
          <a:stretch/>
        </p:blipFill>
        <p:spPr>
          <a:xfrm>
            <a:off x="1676520" y="4419720"/>
            <a:ext cx="927000" cy="927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evt="end">
                                        <p:tn val="65"/>
                                      </p:cond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6"/>
          <p:cNvSpPr/>
          <p:nvPr/>
        </p:nvSpPr>
        <p:spPr>
          <a:xfrm rot="20652600">
            <a:off x="5791320" y="2590920"/>
            <a:ext cx="3352680" cy="3733560"/>
          </a:xfrm>
          <a:prstGeom prst="parallelogram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topi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ntence may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 develope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y tellin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ciden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685800" y="30492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eveloping a Paragraph</a:t>
            </a:r>
            <a:endParaRPr b="0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"/>
          <p:cNvSpPr/>
          <p:nvPr/>
        </p:nvSpPr>
        <p:spPr>
          <a:xfrm rot="534000">
            <a:off x="3809880" y="1523520"/>
            <a:ext cx="2743200" cy="2791080"/>
          </a:xfrm>
          <a:prstGeom prst="can">
            <a:avLst>
              <a:gd name="adj" fmla="val 1905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topic senten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y be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velope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y givin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mple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 rot="21126000">
            <a:off x="387000" y="3822840"/>
            <a:ext cx="3726000" cy="1743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topic sentence may be developed by giving detai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ity in the Paragrap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143000" y="16002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Every sentence in a paragraph should support the main idea expressed in the topic sentence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573440" y="304632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4726080" y="31989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4878360" y="335124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CRTA1433"/>
          <p:cNvPicPr/>
          <p:nvPr/>
        </p:nvPicPr>
        <p:blipFill>
          <a:blip r:embed="rId4"/>
          <a:stretch/>
        </p:blipFill>
        <p:spPr>
          <a:xfrm>
            <a:off x="3124080" y="2971800"/>
            <a:ext cx="4278600" cy="327672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8"/>
          <p:cNvSpPr/>
          <p:nvPr/>
        </p:nvSpPr>
        <p:spPr>
          <a:xfrm rot="21408600">
            <a:off x="2822400" y="2741400"/>
            <a:ext cx="4191120" cy="990360"/>
          </a:xfrm>
          <a:custGeom>
            <a:avLst/>
            <a:gdLst>
              <a:gd name="textAreaLeft" fmla="*/ 0 w 4191120"/>
              <a:gd name="textAreaRight" fmla="*/ 4191480 w 4191120"/>
              <a:gd name="textAreaTop" fmla="*/ 128160 h 990360"/>
              <a:gd name="textAreaBottom" fmla="*/ 862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main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idea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9"/>
          <p:cNvSpPr/>
          <p:nvPr/>
        </p:nvSpPr>
        <p:spPr>
          <a:xfrm rot="20461800">
            <a:off x="2591280" y="44193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nten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 rot="1103400">
            <a:off x="6171840" y="41907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nten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 rot="20202000">
            <a:off x="3734280" y="5409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nten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2"/>
          <p:cNvSpPr/>
          <p:nvPr/>
        </p:nvSpPr>
        <p:spPr>
          <a:xfrm rot="744000">
            <a:off x="5714280" y="51051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nten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6000" spc="-1" strike="noStrike">
                <a:solidFill>
                  <a:srgbClr val="cc0000"/>
                </a:solidFill>
                <a:latin typeface="Times New Roman"/>
              </a:rPr>
              <a:t>concluding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6000" spc="-1" strike="noStrike">
                <a:solidFill>
                  <a:srgbClr val="cc0000"/>
                </a:solidFill>
                <a:latin typeface="Times New Roman"/>
              </a:rPr>
              <a:t>clincher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sentenc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Rest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topic sentence in different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clincher sent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concluding sentenc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nches the point made in the para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summariz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para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Object 4" descr=""/>
          <p:cNvPicPr/>
          <p:nvPr/>
        </p:nvPicPr>
        <p:blipFill>
          <a:blip r:embed="rId1"/>
          <a:stretch/>
        </p:blipFill>
        <p:spPr>
          <a:xfrm>
            <a:off x="6172200" y="4556160"/>
            <a:ext cx="2300400" cy="2149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oherence in a Paragrap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65534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ick to the poin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 ideas have a clear and logical relation to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t details or examples or incidents in logical order.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7315200" y="3276720"/>
            <a:ext cx="1295280" cy="68580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7315200" y="3733920"/>
            <a:ext cx="1143000" cy="53316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7238880" y="4114800"/>
            <a:ext cx="1067040" cy="60948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7162920" y="4572000"/>
            <a:ext cx="1066680" cy="68580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133720" y="45720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ronologic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2514600" y="51814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relation to each oth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3200400" y="5791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order of importance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4" descr="H_HEL001"/>
          <p:cNvPicPr/>
          <p:nvPr/>
        </p:nvPicPr>
        <p:blipFill>
          <a:blip r:embed="rId1"/>
          <a:stretch/>
        </p:blipFill>
        <p:spPr>
          <a:xfrm>
            <a:off x="1219320" y="449568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3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3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300"/>
                            </p:stCondLst>
                            <p:childTnLst>
                              <p:par>
                                <p:cTn id="1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80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3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800"/>
                            </p:stCondLst>
                            <p:childTnLst>
                              <p:par>
                                <p:cTn id="1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457200" y="2286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onnecting Sentences Within the Paragraph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533520" y="2590920"/>
            <a:ext cx="2514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hronological ord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rs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eanw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a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fterward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ally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352680" y="2590920"/>
            <a:ext cx="28958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bjects in relation to one anoth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ext 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n front of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esid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etwee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ehin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248520" y="2590920"/>
            <a:ext cx="2514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order of importan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howev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urthermor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s a resul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n fac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y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219320" y="1981080"/>
            <a:ext cx="670536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ition word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Types of Paragraph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rr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a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ells a 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suasi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ries to convince the audi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crip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a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escribes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posito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planato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a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gives information or explains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Object 4" descr=""/>
          <p:cNvPicPr/>
          <p:nvPr/>
        </p:nvPicPr>
        <p:blipFill>
          <a:blip r:embed="rId1"/>
          <a:stretch/>
        </p:blipFill>
        <p:spPr>
          <a:xfrm>
            <a:off x="5613480" y="1523880"/>
            <a:ext cx="3301920" cy="3468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9T23:01:25Z</dcterms:created>
  <dc:creator>John Sandorff</dc:creator>
  <dc:description/>
  <dc:language>en-US</dc:language>
  <cp:lastModifiedBy>akmcbrid</cp:lastModifiedBy>
  <dcterms:modified xsi:type="dcterms:W3CDTF">2010-08-25T19:51:10Z</dcterms:modified>
  <cp:revision>14</cp:revision>
  <dc:subject/>
  <dc:title>No Slide Title</dc:title>
</cp:coreProperties>
</file>